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7DD-6F58-4075-ACE4-382DF5D6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7F7-4754-4A25-B3CE-2B21896E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88A-EDFE-437E-A14A-769C8FE6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AAE-7E98-4634-85DB-CF204B43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00B-6E6A-471D-975E-E35B6B1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2A7-307C-491F-A068-8A7621B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F3B-1100-4BA0-B5A8-80CB8A18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5CE-4F2D-4FDA-8BA3-37556CBB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996-9460-4230-8DC4-F3183533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495-B5DB-4AA9-890B-1B827EC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2BF-E888-4803-8B5F-5E64894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143-88D9-43E6-97E5-ADDDE08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94430-B137-4A24-A812-68C5BB93D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36402-7882-47D5-85E2-F9F6DA552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Meth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Social Syste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an DiMi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nter for Soci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from her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question to 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you measur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measure it by prox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the data or do you need to collec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log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BM’s Center for Social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504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bridge,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IB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prise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visu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anage the Visual Communicatio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502240" y="1600200"/>
            <a:ext cx="2862360" cy="15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5502240" y="3556080"/>
            <a:ext cx="28558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d soci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success of these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hallenge as research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fying essentially qualitative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of 5 different analysis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Software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built a social network site for IBM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get people to join and then continue to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utation, skills, your mer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ing / sha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 systems (e.g. points) and honorable ro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beehive-logo.png"/>
          <p:cNvPicPr/>
          <p:nvPr/>
        </p:nvPicPr>
        <p:blipFill>
          <a:blip r:embed="rId1"/>
          <a:stretch/>
        </p:blipFill>
        <p:spPr>
          <a:xfrm>
            <a:off x="177840" y="1600200"/>
            <a:ext cx="27176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oad summaries from interview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ed of us: What is the ROI on social networ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sked: Why are people using our SNS s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ed subject interviews on this question (~20 p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d each interview statement based on the type of 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s emerged: 1. social/personal connecting, 2. career climbing, and 3. spreading marketing message of pe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looked content on site for alignment with these 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14880" y="5549760"/>
            <a:ext cx="59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M DiMicco, DR Millen, W Geyer, C Dugan, B Brownholtz, M Muller. (2008) “Motivations for Social Networking at Work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the ACM Conference on Computer Supported Cooperative Work (CSCW 2008). `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urveys to measure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: What impact does our SNS have on IBM? (similar to ROI quest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used “social capital” as a concept to measure how employees have more access to information and expert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ough existing survey instruments, we measured social capital of employe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their reported behavior on the SNS, we correlated (regression analysis) behavior on site with greater social capita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213000" y="55371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Steinfeld, JM DiMicco, N Ellison, C Lampe. (2009) “Bowling Online: Social Networking and Social Capital within the Organiz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urth International Conference on Communities and Technologies (C&amp;T 2009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beehive-logo.png"/>
          <p:cNvPicPr/>
          <p:nvPr/>
        </p:nvPicPr>
        <p:blipFill>
          <a:blip r:embed="rId1"/>
          <a:stretch/>
        </p:blipFill>
        <p:spPr>
          <a:xfrm>
            <a:off x="0" y="38160"/>
            <a:ext cx="1168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 an inter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eployed as new feature on the SNS (rewarding points for content). How do we measure impac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the deployment: only half of people saw the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he two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instrumented the system to observ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429000" y="552456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Farzan, JM DiMicco, DR Millen, B Brownholtz, W Geyer, C Dugan. (2008) “Results from Deploying a Participation Incentive Mechanism within the Enterprise.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CHI 200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5207040"/>
          <a:ext cx="1994040" cy="16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207040"/>
                    <a:ext cx="19940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a survey to gather ground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es your behavior on the SNS reflect your feelings about the peopl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signed a survey “game” ask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“How strong is your relationship with these peopl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Used this ground truth to compare with behavior on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Helvetica Neue Light"/>
              </a:rPr>
              <a:t>Regression analysis demonstrated correlations between closeness and certain behavi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3631" t="23010" r="44087" b="0"/>
          <a:stretch/>
        </p:blipFill>
        <p:spPr>
          <a:xfrm>
            <a:off x="152280" y="5143680"/>
            <a:ext cx="1603440" cy="163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interviews to infor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ativ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ebsite for viewing legislation: how are people using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s of which features were used and how long each user sta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few power users, many casual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ed 6 power users to answer our questions raised during our log analysis of “why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174840" y="5664240"/>
            <a:ext cx="59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u, JM DiMicco, DR Millen. (2010) “Detecting Professional versus Personal Closeness Using an Enterprise Social Network Site.”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Proceedings of CHI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2000" y="5187960"/>
            <a:ext cx="1679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2:23:02Z</dcterms:created>
  <dc:creator>Joan DiMicco</dc:creator>
  <dc:description/>
  <dc:language>en-US</dc:language>
  <cp:lastModifiedBy>Joan DiMicco</cp:lastModifiedBy>
  <dcterms:modified xsi:type="dcterms:W3CDTF">2011-04-04T18:03:11Z</dcterms:modified>
  <cp:revision>8</cp:revision>
  <dc:subject/>
  <dc:title>Evaluation Methods  for Social Systems </dc:title>
</cp:coreProperties>
</file>